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4D958E-4E96-4B4B-BD49-33F663C3C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C73BAB-D379-4D56-AA20-8487F749D4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08120" indent="-34308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Toksin se vezuje za glikoprotein na površini ćelije domaćina i inhibira sintezu proteina inhibišući aktivnost 60S subjedinice na ribozomima, što dovodi do smrti ćeli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77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ACA6E1-2591-4124-BA10-B2F552F93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nvazizivni su najčesći uzrocnici akutne dijareje. ETEC = enterotoksicna E.coli – najcesci bakterijski izazivac dijareje u zemljama u razvoju, kao i putnicke dijare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io cholerae = gram negativna fakultativno anaerobna bakterija, infekcije najcesce unosenjem kontaminirane vode,  ribe, skolj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A01D6B-7780-4F55-A428-D7FB264A9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A211E3-A757-4E61-9A2C-DAA2CAAED96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2F313D-34A0-4BE6-893A-9EFA85922C4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5698F3-955B-46AE-BABE-A33D0D4F2B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8C0992-8A06-4AA3-B39B-4231B973BC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D8CC35-7CEF-452B-ADDF-8AFB12DB38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FA7AEE-DAD4-4F6F-895F-462A3331EF0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758785-0BF1-4294-BDED-B00B53300D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C5D2-DED3-4FFF-80A9-13D3A71C1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A3BD-84C6-44A0-B6C7-3F62B289E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625D-9664-4C55-BDDA-266E6C04B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4D67-F5FD-4CAF-BA5B-376FC393A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A2C3A-54EA-43C5-B4BE-00D3103C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2379C-4342-4D6C-B6DF-F13B5EF1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A3B89-C5D8-4C70-A06C-E6B8109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8C527-333B-4397-AA8C-2237BBC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C580F-8730-4C5A-A07E-95AEEF6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0CB06-B90B-4AFC-A4E5-3F01F836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E8E5C-481A-4142-B2B5-1B9FD2F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52AE-CD0D-4109-A119-364A76A8D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6BCC-849C-41D8-8503-664FF09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61228-24DF-4681-BA8B-D9C8E85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37AEA-5AFA-4903-B44E-55AB40A8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BB35-90E3-449F-B179-75F03E32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5D297-1F38-4AD4-9B20-92302876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7FB7-D4E0-4DA9-8944-3A76B17ED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265F-2577-4D34-B4D7-5A1AB05DA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A979-C397-4311-83BD-D3F2338A5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B4A1-41EB-4E6D-9489-BAAC0A9CF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9C68-1728-4564-B1EC-831589EC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16D4-106F-4C72-BCDF-59FBFDB14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88D8-0C4C-400C-92F5-0F42FBA4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7CA6-74A0-44E3-891A-6628F310548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FE9D-1A10-4CE7-8181-E2F269E414C5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FECB-B361-4206-BF90-0C5F094DDC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hyperlink" Target="http://upload.wikimedia.org/wikipedia/commons/4/49/Nifuroxazide.svg" TargetMode="Externa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Е И ИНТОКСИКАЦИЈЕ ДИГЕСТИВН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0E0-5DF8-4E21-846C-E4EE5641651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шке карактеристи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360" y="1428840"/>
            <a:ext cx="75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ома чест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шће у земљама са топлом климом (тропи и субтропи) него у земљама умереног климатског пој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натно чешће у срединама са ниским нивоом економске развијености и хигијенског стандар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овим срединама чешће код мале деце и у топло доба године (изузетак: Yersinia enterocolitica и Rotavir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 оболеле особе и клицоноше, животиње и намирнице жив.порекла (јерсиниоза, камплобактериоза, сламонел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Фекоорални пут преноса (контакт, вода, храна, му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BBD-C578-472B-A8A5-552B3F89F9E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атогенеза цревних инфекција и интоксикациј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1. Степен инвазивности микрооргани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Не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aureus, Bacilus cereus, Clostridium perfrigens, Vibrio parhaemolyticus, Vibrio cholerae, E.coli, virusi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вазилажење механизама имунске одбране (пре свега неспецифичн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теденције уласка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оштећења епителних ћелија (или минимално оштећење-скраћење микровила, без њиховог убиј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луче ентеротоксине-поремећај транспорта електролита 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12C6-ED46-46DD-A06E-8DCBCFD3EB3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5520" y="260280"/>
            <a:ext cx="860436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25520" y="2830680"/>
            <a:ext cx="860436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80880" y="55198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NEINVAZIVN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ET E.Coli , V.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koji stimulišu lučenje adenil-ciklaza→ propustljivost crevnog epitela,sekrecija  vode i elektrolite u lumen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česte, obilne vodenaste stolice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908000" y="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Patogeneza akutne bakt.dijareje uzrokovane NE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500040"/>
            <a:ext cx="7896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higell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n-typhus salmonella, дијарогена Esherichia coli (EPEC, EIEC, EHEC, EAgEC, DAEC), Yersinia enterocolitica, Campylobacter jejuni/co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о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ирање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лобађање ендо- или/и егзотокс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кретање запаље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падање епи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ки узрочници продиру кроз епител у субепителни простор (даље размножавањ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лимфоток и регионалне (мезентеријалне) лимфне чвор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крвоток (бактеријемија) са насељавањем других органа (јетра, мозак, плућа и ендокар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п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EE52-6CF4-4D89-B184-2BE02EED67E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587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28600" y="5629320"/>
            <a:ext cx="82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INVAZIVN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: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Salmonella, Shigella, Campilobacter,Yersinia, EP</a:t>
            </a:r>
            <a:r>
              <a:rPr b="1" lang="sr-Latn-C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E.coli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Prodiraju u  mukozne ćelij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razmnožavaju se. Kad se raspadnu, oslobađaju s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dotoks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lipopolisaharid sa pirogen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vojstvima, P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), …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ostećenje epitela, 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kro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 deskvamacija ćelije (feces sadrži epitel, Le, Er,slu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590480" y="-54000"/>
            <a:ext cx="59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Patogeneza akutne bakt.dijareje uzrokova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016080" y="1335240"/>
            <a:ext cx="309564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4" name="Text Box 6"/>
          <p:cNvSpPr/>
          <p:nvPr/>
        </p:nvSpPr>
        <p:spPr>
          <a:xfrm>
            <a:off x="1066680" y="8568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KUTNA INFEKTIVNA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atogenez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95880" y="1523880"/>
            <a:ext cx="2735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VAZIV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monella, Shigella, Campilobacte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rsini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a, 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 E.c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diru u mukozne ćelije, razmnožavaju se.                   Kad se raspadnu, oslobađaju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dotoks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štećenje epitela,  nekroze  i deskvamacij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3244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pitel, Er, Le, slu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1520" y="1989000"/>
            <a:ext cx="28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koji stimuli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š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sintez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adenil-ciklaz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ekrecija  vode i elektrolite u lumenu 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česte, obilne vodenaste stol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763640" y="3573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429680" y="4286160"/>
            <a:ext cx="0" cy="285840"/>
          </a:xfrm>
          <a:prstGeom prst="line">
            <a:avLst/>
          </a:prstGeom>
          <a:ln cap="sq" w="38160">
            <a:solidFill>
              <a:srgbClr val="00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324480" y="1371600"/>
            <a:ext cx="2743200" cy="1625760"/>
          </a:xfrm>
          <a:prstGeom prst="rect">
            <a:avLst/>
          </a:prstGeom>
          <a:noFill/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571760" y="4071960"/>
            <a:ext cx="0" cy="28728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38240" y="1400040"/>
            <a:ext cx="2735280" cy="1366920"/>
          </a:xfrm>
          <a:prstGeom prst="rect">
            <a:avLst/>
          </a:prstGeom>
          <a:solidFill>
            <a:srgbClr val="c00000"/>
          </a:solidFill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EINVAZIVN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T E.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, V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320" y="999720"/>
            <a:ext cx="754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настанка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мањење апсорпцијске површине (скраћење микров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смотске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екреција осмотски активних супстанци у цревни лумен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, 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ношење сложених маркомолекула-угљених хидрата (лактоза) и белан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амацијски пролив (простгландин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EE27-FA4A-4FBC-9FE1-D96F8A6F66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а 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(није обавеза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оминантни клинички симптом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лив-две или више столица ненормалне конзистенције (воденасте или ретко каша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толица одрасле особе са волуменом&gt; 200г/дан-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ста пасажа течн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једна или више крваво-слузав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аинтестиналне манифестације (шигелоза, јерсиниоза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D057-700B-4A0C-97B0-E2A80B4FB6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микроорганизама на клинички слик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28800" y="1357200"/>
          <a:ext cx="7543800" cy="4937400"/>
        </p:xfrm>
        <a:graphic>
          <a:graphicData uri="http://schemas.openxmlformats.org/drawingml/2006/table">
            <a:tbl>
              <a:tblPr/>
              <a:tblGrid>
                <a:gridCol w="2576520"/>
                <a:gridCol w="4967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нвазив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тицај на клинички сл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Кратка инкубација-неколико с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нагло, без продр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није најчешће повиш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краткотрајна (24-72 часа), најчешће пролази без специфичног лечења (изузимајући колер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Дужа инкубациј-бар 24-48 час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постепено-током 1 до 2 дана (малаксалост, безвољност, мијалгије, мучнина, губитак апети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увек присутна, најчешће преко 38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траје дуже, неопходно леч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Склоност ка компликацијама-бактеријемији и сеп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81FA-E83D-46D2-81CB-5B59E7BDB2F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Сегментност лезија дигестивног трак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FC20-F2D7-44F5-910D-EC41D96510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2920" y="857160"/>
          <a:ext cx="8858160" cy="5643720"/>
        </p:xfrm>
        <a:graphic>
          <a:graphicData uri="http://schemas.openxmlformats.org/drawingml/2006/table">
            <a:tbl>
              <a:tblPr/>
              <a:tblGrid>
                <a:gridCol w="2477880"/>
                <a:gridCol w="2251080"/>
                <a:gridCol w="4129200"/>
              </a:tblGrid>
              <a:tr h="892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дигестивног тра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ктеристике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ксим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ома волуминозне од почетка до кр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ен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јчешће безбој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се несварене хран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т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уминозне</a:t>
                      </a:r>
                      <a:br>
                        <a:rPr sz="1800"/>
                      </a:b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шаст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е или браон бо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Јако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лева полов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 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очетку волум., касније оскуд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вих неколико столица фекулентне, касније фекалије оскудније а повећава се количина слузи, јавља се сукрвица, тенезми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2560" y="155736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астроинтестиналне инфекције-на 2. месту по учесталости иза респираторних инфекција (у свету дневно оболи око 5 милиона љу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нижим” хигијенским стандардом-водећи узрок морбидитета и морталитета (нарочито деце млађе од 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вишим” хигијенским стандардом-чешће у дечијој популацији, међу сиромашнијим слојевима и имунокомпромитованим пацијентима (АИДС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9D3-7464-47D4-9222-1C9441EC06B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:\Users\Toshiba\Desktop\kako-zaustaviti-proliv.jpg"/>
          <p:cNvPicPr/>
          <p:nvPr/>
        </p:nvPicPr>
        <p:blipFill>
          <a:blip r:embed="rId4"/>
          <a:stretch/>
        </p:blipFill>
        <p:spPr>
          <a:xfrm>
            <a:off x="6791400" y="0"/>
            <a:ext cx="235260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и сегментности лезија на клиничку слик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428840"/>
          <a:ext cx="8572320" cy="42069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000160"/>
                <a:gridCol w="2500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ГИТ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ст микро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е патогених 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удац, дуоденум, почетак јејун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еум, посебно терминални иле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-пенетра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mpilobacter jeju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посебно лева половин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terohaemorrha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diffici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AF1-31CA-414A-85FD-6079598D558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Oпшти принципи дијагностик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855-BAA6-4BD2-A65E-7E46E4B1776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121428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ематолошке анализе (ККС, хематокр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иохемијске анализе (ЦРП, уреа, креатинин, АСТ, АЛТ, јоногр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4240" y="713880"/>
            <a:ext cx="78962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Бактериолошке претраге столице (копрокул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инвазивне инфекције (Salmonellae, Campilobacter jejun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нављати (2-3 пута)-сензитивне у 70% (многе бакт. цревне инфекције, чак и до 50%, остају етиолошки недијагностик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 започињања антибиотск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 неке претраге столице неопходна консултација са микробиологом-специфични услови култивисања (вибриони, Е. Coli, C.jejuni et col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Вирусолошке претраг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алаз вирусног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A92-A967-4F23-ADFB-03C642ECEC6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56800" y="785880"/>
            <a:ext cx="77533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бактеријско тровање храном-преглед повраћеног садржаја и остатака инкриминисан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Паразитолошки преглед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струка претрага густе столице на цисте протозоа и јаја хелми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Размаз столице, бојење и фиксација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.histolytica, Criptosporid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великог узорка столице (en masse)-стронгилоидоза (мали број лаборато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седимента дуоденалног садржаја-ламблијаза, стронгилоидоза, анкилостомијаза, јаја jeтриног мети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E52B-5C7C-4753-B506-0288AB54573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ерологија-амебијаза (тежа цревна или екстраинтестинална-IHA, IF, ELISA), јерсиниоза, кампилобактериоза, клостридијална инфекција (токсин А и 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доскопија (клострдијал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тивни РТ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хо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A04C-EA0E-4019-8153-2230FC8361C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цревних инфекција и интоксикациј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1628280"/>
            <a:ext cx="7543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ета, ограничени унос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сложени макромолекули (месо, млеко, пресно поврће и во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сти угљени хидрати (барени пиринач, шаргарепу, кромпир, плазма кекс, бели хлеб, бела кифла, кока-кола, сладак чај, слане грисине, посне слане супе, банане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азриво, са смиривањем дијареалног синдрома уводити јогурт, беланце јајета, барену пилетину, постан млади сир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3576-124D-4C07-B957-522B99E185A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C:\Users\Toshiba\Desktop\преузимање.jpg"/>
          <p:cNvPicPr/>
          <p:nvPr/>
        </p:nvPicPr>
        <p:blipFill>
          <a:blip r:embed="rId5"/>
          <a:stretch/>
        </p:blipFill>
        <p:spPr>
          <a:xfrm>
            <a:off x="5796000" y="9810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ревна течност у односу на крвну плазму садржи сличну конц Na али 4-5 пута већу конц. К и двоструко већу конц. бикарб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дијареални синдом: губитак воде, Na, Cl, бикарбоната (ацидоза) 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ероралн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слађен чај, слана посна супа, пиринчана посоље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едства за пероралну рехидратацију (Nelit, Rehidromix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”Dacca” раствор: NaCl+NaHCO3+KCl 5:4:1 (kol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3FB-09BB-4F21-9BF0-49DB42E6FD4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олошки раствор (0,9% Na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укосалин (0,9% NaCl+2,5% G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ингеров 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,3% NaHCO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тез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Д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ерење артеријског крвног притиска, пулса, диур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1443-75BD-43F9-A071-1268EA27C06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ntent Placeholder 5" descr="Шта лекова спречава путници Пролив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928440" y="1571400"/>
            <a:ext cx="771516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3. Медикаментоз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еме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у повраћеном садржају нема остатака несварене хране-алиментарна интикс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алгетике и спазмолитик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давати никада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примарно хируршком обо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хируршкој компликацији примарно инфективне болести органа за 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кутне инфекције ГИТ-а не изазивају тако јаке болов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дијароици (лоперамид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икада код инфективног пролив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41C-69EE-4087-8B9A-46FDD5E2B27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071360" y="928800"/>
            <a:ext cx="75438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ље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е смањење симптома и скраћење трајањ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и престанак исзлучивања узрочника (ерад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венција 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це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ла деца (млађа од 3 месе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тарији пацијенти (&gt;6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мунокомпромитован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вазив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5F54-0D58-4D90-8C5F-7418126D6B4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ца узраста испод 5 година годишње оболе 5-6 пута од атака инфективног пролива (неразвијени краје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аке године дијареја је узрок смрти око 760.000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ареја је узрок смрти око 1,7 милиона особа годиш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авни узрок потхрањености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3FBE-F91A-4D96-8FBD-BC4344A83B7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E13-BE52-4FA5-B331-3913415DFE1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057400" y="914400"/>
            <a:ext cx="3581280" cy="2286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14840" y="317160"/>
            <a:ext cx="70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ffff66"/>
                </a:solidFill>
                <a:latin typeface="Tahoma"/>
              </a:rPr>
              <a:t>Антимикробни лекови који се користе у лечењу инфективних дијареја</a:t>
            </a:r>
            <a:r>
              <a:rPr b="0" i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77800" y="893880"/>
          <a:ext cx="8286840" cy="5324400"/>
        </p:xfrm>
        <a:graphic>
          <a:graphicData uri="http://schemas.openxmlformats.org/drawingml/2006/table">
            <a:tbl>
              <a:tblPr/>
              <a:tblGrid>
                <a:gridCol w="2589120"/>
                <a:gridCol w="2586240"/>
                <a:gridCol w="3111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лтернатив</a:t>
                      </a: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лек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иге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абл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sitetraciklin 2,5 g у току 12 са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лмонелозн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табл. или Amoksicilin 3x500mg/дан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екције изазване EI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2x2 табл. или Gentamicin 1mg/kgtt/8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Јерсинијски ентеро</a:t>
                      </a: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lkin 2x100mg, Gentamicin 1mg/kgtt/8 сати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л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klin 300mg једнократ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 или Ciprofloksacin 1g једнократно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. или Hloramfenik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мпилобактер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ј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к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itromicin 4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5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а или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zitromicin 1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3 дана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Gentamicin 1mg/kgtt/8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ати  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сеудомембранозни к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nkomicin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абл.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etronid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bl.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23AD-D4B2-4CA0-969A-EC326B9FCA7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868320" y="1164600"/>
            <a:ext cx="80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Антипараз</a:t>
            </a:r>
            <a:r>
              <a:rPr b="0" i="1" lang="sr-Latn-CS" sz="1800" spc="-1" strike="noStrike">
                <a:solidFill>
                  <a:srgbClr val="ffff66"/>
                </a:solidFill>
                <a:latin typeface="Tahoma"/>
              </a:rPr>
              <a:t>ит</a:t>
            </a: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ни лекови који се користе у лечењу инфективних дијаре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6000" y="2343240"/>
          <a:ext cx="7791480" cy="2425680"/>
        </p:xfrm>
        <a:graphic>
          <a:graphicData uri="http://schemas.openxmlformats.org/drawingml/2006/table">
            <a:tbl>
              <a:tblPr/>
              <a:tblGrid>
                <a:gridCol w="3451320"/>
                <a:gridCol w="434016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мебијаза (амебни колити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75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+ Paromomicin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10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амбли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ја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лантидија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онгилоид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abendaz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Цревни антисептици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ифуроксазид (Ентерофур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риват 5-нитроф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ам деловања није у потпуности разјашњ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нтимикробнe и aнтипаразитарнe oсобине нифуроксазидa, вероватнo потичу oд нитрo-групe </a:t>
            </a:r>
            <a:r>
              <a:rPr b="0" lang="mk-MK" sz="2400" spc="-1" strike="noStrike">
                <a:solidFill>
                  <a:srgbClr val="ffffff"/>
                </a:solidFill>
                <a:latin typeface="Calibri"/>
                <a:ea typeface="Calibri"/>
              </a:rPr>
              <a:t>(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ојa je jako eлектрон-ре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ерапија  нифураксозид-ом  се нe препоручуje дуже oд 7 да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aпсуле сe нe препоручују деци млађoj oд  12 г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A903-7837-4CC0-91E5-116FA3AC119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7"/>
          <a:stretch/>
        </p:blipFill>
        <p:spPr>
          <a:xfrm>
            <a:off x="5715000" y="71280"/>
            <a:ext cx="3840120" cy="240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:Nifuroxazid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857160"/>
            <a:ext cx="2979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880" y="68040"/>
            <a:ext cx="56167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Антимикробни спекта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ounded Rectangle 1"/>
          <p:cNvSpPr/>
          <p:nvPr/>
        </p:nvSpPr>
        <p:spPr>
          <a:xfrm>
            <a:off x="3124080" y="4038480"/>
            <a:ext cx="5181840" cy="1828800"/>
          </a:xfrm>
          <a:prstGeom prst="roundRect">
            <a:avLst>
              <a:gd name="adj" fmla="val 16667"/>
            </a:avLst>
          </a:prstGeom>
          <a:solidFill>
            <a:srgbClr val="fbfbfb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am </a:t>
            </a:r>
            <a:r>
              <a:rPr b="1" lang="sr-R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позитивне бактерије</a:t>
            </a:r>
            <a:r>
              <a:rPr b="1" lang="mk-MK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reptococcus py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aphylococcus pyog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ounded Rectangle 2"/>
          <p:cNvSpPr/>
          <p:nvPr/>
        </p:nvSpPr>
        <p:spPr>
          <a:xfrm>
            <a:off x="762120" y="1219320"/>
            <a:ext cx="5410080" cy="2361960"/>
          </a:xfrm>
          <a:prstGeom prst="roundRect">
            <a:avLst>
              <a:gd name="adj" fmla="val 16667"/>
            </a:avLst>
          </a:prstGeom>
          <a:solidFill>
            <a:srgbClr val="757575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m</a:t>
            </a:r>
            <a:r>
              <a:rPr b="1" lang="mk-MK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sr-R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негативне бак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scherichia 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almon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hig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972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икроорганизми који дати у одређеној дози, обезбеђују здравствену бенефит домаћину (СЗ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е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есварљиве супстанце (углавном олигосахариди) које стимулишу раст и активност пробиотика (углавном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a), те са њима имају синергистички учинак. Најпознатији је инулин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биотичке врсте компетитивно инхибирају стварање токсичних супстанција и раст мање пожељних врста, такмичећи се за простор и х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6F13-84C9-405F-80C7-BF8B46EF6E2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C:\Users\Toshiba\Desktop\probiotici-e-prebiotici.jpg"/>
          <p:cNvPicPr/>
          <p:nvPr/>
        </p:nvPicPr>
        <p:blipFill>
          <a:blip r:embed="rId3"/>
          <a:stretch/>
        </p:blipFill>
        <p:spPr>
          <a:xfrm>
            <a:off x="1547640" y="0"/>
            <a:ext cx="60487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56800" y="333000"/>
            <a:ext cx="77533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садашња истраживања указују да пробиотици не могу заменити уништену нормалну цревну флору, међутим као привремене колоније могу овављати исте функције као природна флора, дајући јој времена да се опора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чке врсте се потом убрзано замењују нормалном цревном фл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коришћени пробиотици су различите врсте рода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u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дебелог црева, изоловано 30 врста) и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actobacillu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црева и вагине, изоловано 56 врста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ifidum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re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infant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long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acid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cas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стале врсте: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coccus, Saccharomyc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(probiotički kvasac),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Enterococcus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Јогурт-бактеријe, aли без прибиотичког ефек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bulgaric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Streptococcus therm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9FC9-1571-473E-B72A-3BFDBF9E1C6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ћина пробиотских препарата садржи 1.000.000.000 бактерија на грам или милили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ично је препоручена доза: једна капсула 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ного је важнији квалитет бактерија у препарату, јер оне морају да преживе деловање желудачне и жучних киселина, као и алкални садржај у дуоденуму, како би стигле до црева и биле делотвор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ке је потребно узимати најмање 5 пута недељно како би се одржао њихов утицај на цревну фл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B7E-9EDB-4940-BEB2-A1EBF95A75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alibri"/>
              </a:rPr>
              <a:t>НЕИНВАЗИВНЕ ИНФЕКЦИЈЕ ДИГЕСТИВНОГ ТРАК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ОВАЊЕ ХРАНОМ (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Intoxicatio alimentaris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ношење хране или воде, контаминиране патогеним микроорганизмима или њиховим токс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ичком сликом доминирају гастроинтестинални симптоми и знаци (повраћање, мучнин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ђе, симптоми и знаци од стране гит блааги или одсутни а доминирају симптоми и знаци од стране других органских система (ЦНС-ботулиз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и број оболелих у свету-6.000.000 до 80.000.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ци: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Staphylococcus aureus, Bacilus cereus, 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564-144F-404C-9515-092CA071601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филококно тровање 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гзотоксини Staph. Aureu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7 серолошких типов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афилококног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теини ма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лекулск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порни на дејство желудачног и цревних со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носе повишену температур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стају и пос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30m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00</a:t>
            </a:r>
            <a:r>
              <a:rPr b="0" lang="sr-Latn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ичка обрада намирница не неутралише његову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B93-1D6F-4965-8D88-6031809121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4140360" y="39337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л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деална подлога за рамножавање St.aureusa и продукцију егзотоксина-млеко, јаја, месо (млевено) тј. подлоге погате уг.хидратима и проте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тровања-сладолед, колачи, млевено ме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-клицоноше или пацијенти са носилаштвом узрочника у носу или на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ично се ради о контаминацији већ припремљене хране (мада ни термичка обрада намирница не спречава појаву тровањ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ED13-D3DF-4B90-BDD0-F1D80149A6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2" descr="C:\Users\Toshiba\Desktop\373560.jpg"/>
          <p:cNvPicPr/>
          <p:nvPr/>
        </p:nvPicPr>
        <p:blipFill>
          <a:blip r:embed="rId7"/>
          <a:stretch/>
        </p:blipFill>
        <p:spPr>
          <a:xfrm>
            <a:off x="5916600" y="0"/>
            <a:ext cx="32274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D1C7-C9C7-40D9-BEB3-C82A57E272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1071720"/>
          <a:ext cx="6096240" cy="5459400"/>
        </p:xfrm>
        <a:graphic>
          <a:graphicData uri="http://schemas.openxmlformats.org/drawingml/2006/table">
            <a:tbl>
              <a:tblPr/>
              <a:tblGrid>
                <a:gridCol w="1619280"/>
                <a:gridCol w="1571760"/>
                <a:gridCol w="1380960"/>
                <a:gridCol w="1524240"/>
              </a:tblGrid>
              <a:tr h="555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РОЂ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СТЕЧ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хуморал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елулар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Киселост жел.садрж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е ефекторске ћел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нтит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Б-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-лимфо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отил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 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и ефекторски протеи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родукција слу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иток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анкреас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Запаљен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реа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Билијар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фл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ханизам дејства стаф. ентеротокс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родук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L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-a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ктивација центра за 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имулацијом симпатичких влакана n.vagus-а у горњим партијама дигестивног тракт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ки типови ентротоксина  блокирају ресорпцију електролита и воде из цревног лумена, узрокујући пролив (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4848-BF29-4005-A6B0-69B26D3E5E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71280" y="260280"/>
            <a:ext cx="7543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1-12 сати (најчешће до 6 часо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гли поче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ређе пролив, повишена телесна температура се по правилу не ј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абораторијски  налази (најчешће нормални, знаци дехидрат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икробиолошке претраг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етекција ентеротоксина у остацима инкриминисане хране и повраћеном садржају (ретко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43F1-006F-461E-8F9D-068676AC954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а антибиотика није индикова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142-D9FB-467B-B0DD-F62A9580556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acilus ce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еробни, спорогени, Г+ бац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Земљиште, природне во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, сирове нами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дукује еметички и дијареални тип 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Еметички тип тровања (кувани пирина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раткотрајна инкубација (1-6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Упорно повраћање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2 до 10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Дијареални тип тровања (поврће, сосеви, пудин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ужа инкубација (6-14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Обилне, водене столице, праћене грчевима у трбуху (ретк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16-48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40A-E3B4-4AD7-88D5-A3E5F37F73E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5" descr="Ð¡ÑÐ¾Ð´Ð½Ð° ÑÐ»Ð¸ÐºÐ°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F687-F68A-41C1-98C7-393D0A5548C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3" descr="C:\Users\Toshiba\Desktop\Clostridium-perfringens-cells.jpg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341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115640" y="620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лигатни анаероб (може издржати дејство кисеоника и до 7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минално поставњене споре-отпорне на кување у кључалој води у трајању од 10  мин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сте великом брзином на 15-50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а тровања или епидемије (кантине у фабрикама и војсци, масовна окупља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серотип А, ређе C и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Јесен или зимски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рана која је охлађена без наглог замрза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320" y="33336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нтеротокс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телне ћелије танк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интрацелуларних молекула у лумен црева (Na, Cl, протеини, 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8-24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одени проливи (2-4 столице/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рчевити боло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тко повраћање и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644D-AB42-4819-A410-C9892DC6CF9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brio parahaemolyth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алофили (висока концентарција соли)-конзумирање морских  животињ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нутар исте врсте могу да продукују различите ентеротоксине, цитотоксине и хемолизине-разноликост клиничк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и: остриге, сардине, крабе, лигње, поврће контаминирано сланом морском водом, мор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: најчешће термички необрађена (али и обрађена)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лавни проблем: недовољно брзо постигнуто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AA0-4352-4653-A4EC-07781BFCF97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ксплозивни, водени проливи→предшокно стање 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лови у трбуху, мучнина, повраћање, главобоља (код већ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хтавица и повишена температура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зентерични синдром са крваво-слузавим  столицама и лезијом слузнице дебелог црева веома 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а анк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ентеротоксина из повраћеног садржаја, столице, остатака инкримисане хране (не ради с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942-D38E-45A2-8900-AC6BF0A186D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C:\Users\Toshiba\Desktop\cholera2.jpg"/>
          <p:cNvPicPr/>
          <p:nvPr/>
        </p:nvPicPr>
        <p:blipFill>
          <a:blip r:embed="rId1"/>
          <a:stretch/>
        </p:blipFill>
        <p:spPr>
          <a:xfrm>
            <a:off x="0" y="0"/>
            <a:ext cx="3348000" cy="2133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755280" y="260280"/>
            <a:ext cx="7854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представља најтежу секреторну дијареју, која се у најтежим облицима може испољити дехидратацијом, хиповолемијским шоком и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-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кривљени бацил, покре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спороге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, једнополарна флаг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становници површинских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ста патогено за љ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4E1-E160-4325-AF2D-121DD484B48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2" descr="C:\Users\Toshiba\Desktop\bakt_1.jpg"/>
          <p:cNvPicPr/>
          <p:nvPr/>
        </p:nvPicPr>
        <p:blipFill>
          <a:blip r:embed="rId5"/>
          <a:stretch/>
        </p:blipFill>
        <p:spPr>
          <a:xfrm>
            <a:off x="6054840" y="0"/>
            <a:ext cx="308916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матски-О и флагеларни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носу на соматски антиген: серогрупа О1 и О139 (једини узрочници кол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бриони других серогрупа-узрокују колери слична обољења (проливи блажег интезитета, спорадичног каракте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ibrio cholerae O1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aw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Inab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Hikojima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соматском О антиге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биолошким особинама-два биотипа: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asica, El-Tor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(блажа клиничк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алофилне бактерије-високе концентрације соли (полуслане воде ушћа великих р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9E6-B852-4A92-97E9-A1C66FCB560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фокално лимфно ткиво (крајници,Пајерове плоче, мезентеријалне лимф.жл.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апендик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дифузна седишта-неорганизовани делови (ламина проприа и епит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0D06-2699-4DB8-815C-99027FCF899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786040" y="60008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скључиво хума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(ређе), епидемијски и пан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-оболела особа или клицоноша (жучна кес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миирана вода, храна,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актори који фаворизују инфекцију (смањење желудачног ацидитета): гастритис, употреба антацида блокатори H2 рецептора, ресекција желу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 неендемична подручја колера се најчешће импортује као путнички проли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0DB9-91D0-43D4-A499-C16D29CE7E5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онизација танког црева и продукција ентеротоксина (везивањем помоћу п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токсин: 2А и 5Б подједи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-подјединица→везивање токсина за ганглиозид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M1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површини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 компонента: А1 и А2 подједи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1 подјединица-продире у ћелију и активира аденилат-цикл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 резултује продукцијом цикличног аденозин-монофосфата (цАМП)→блокада апсорпције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стимулација секреције хлорида и воде у лумен цре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795-3DB9-4BD6-A4B1-79C7F71767F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а секреција изотоничне течности у лумен црева, која превазилази ресорптивни капацитет дебел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е количине течности из васкуларног корита и екстрацелуларног простора, као и бикарбоната→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хиповолемијски шок и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уги, термолабилни токсин-повећана пермеабилност цревне слузниц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zonula occludens toxin)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оштећујући “тесне везе” епител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до 3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сто асимптоматска или као баналн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82EC-F4D7-4829-A2AE-8F0D2FCF818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 у трбуху, гађење, 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чне, фекулентне, смрдљи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јективно: лако дехидратисан пацијент, адинамичан, очуваног крвног прит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течности: 2-5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: т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и гастроент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е учестале, воденасте, обилне, пражњење безболно и експлоз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а-безбојна, личи на пиринчану воду, базне реакције, отужног мириса ( на ри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3D64-6F51-4163-A893-C2E9E88DD64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течности: 8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јективно: изразито адинамичан, хипотензиван, олигур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Алгид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40-50 столица дневно (дневни губитак 15-20 литара воде тј. преко 10% телесне теж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грчеви у мишићима, анурија, хипо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ешка дехидратација, хиповолемијски шок, анурија,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Facies hipocratica”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силарна температура до 3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ктална до 4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тих “афоничан” глас-”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ox choleric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ахикардија, мукли тонови, убрзан, филиформан пулс, немерљив крвни притисак, увучен “чунаст” трб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6BFD-72B8-46ED-BED7-6A0821BABB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и подац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боратор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ематолошк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ct↗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e↗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иохемијск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K↘, Na ↘, Cl ↘,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т.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доз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ренална азотемиј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перглик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би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ке сакупити што пре, у раној фази болести (пре примене антибиот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а, повраћени садржај, брис ректума, 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9CC-7409-43F3-825F-EB16685155C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анспортне подлог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о није могуће брз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опремити материјал до лаборатор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гаћена алкална пептон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бкултивација на селективн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TCBS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крвни а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8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ипичне коло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ст аглутин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ивален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O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тисеру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глед столице микроскопом у тамном пољу (покрети вибри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ологија-од 7-10 дана (ограничени значај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3302-6FED-4824-93E3-5E6DEAC1952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Зелен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parahaemolyticusa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жут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cholerae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(TCBS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подлога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r os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кши облици дехидратациј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4g NaCl+4g NaHCO3+1g KCl+20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лукозе+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1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о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Интравенским путем-2 литра за 30 мин.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Најчешће се корис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Ringer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лакт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HCO3  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-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лактат 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DACCA” : NaCl+NaHCO3+KCl  5:4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секундарна)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doxycyclin 300 m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bactrim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ли еритромицин (деца)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iprofloksacin 1g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2C6-7B61-46C8-A724-88440AF1CD6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езбеђење здраве, пијаће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илна диспозиција људских излу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акцинација (путовање у ризична подруч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оматски антигени два најважнија сер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фикасност: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рајање заштите: 2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803-C8B6-40B1-9D37-E15BCBFBB39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360" y="356760"/>
            <a:ext cx="7543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окал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ајерове плоче се налазе у танком цреву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рминални илеум), величине су 1-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састоје  се од Б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Т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i="1" lang="sr-R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стоцита, полиморфонуклеара и плазм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површини П.плоча налазе се М ћелије, одговорне за презентацију 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ифуз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епителни леукоцити, леукоцити у ламини пропр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уче интерлеукине 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1 β, 4, 5, 6; гама 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Д8 супресори (85%), ЦД4 помагачки (1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3132-8415-4755-83E1-4BFC7C4870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ећи део нормалне флоре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ређеним условима изазивају 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словно патогене бактер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“o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ртунист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G-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 бац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јединачно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парови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правилн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у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имбрије или пи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ога у адхезиј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 стварају капсул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ки сојеви 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M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капсул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0D0F-08CE-482F-B60E-E1F8EEDFD2D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71280" y="333360"/>
            <a:ext cx="7543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патоге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P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Ентеротоксична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</a:rPr>
              <a:t> (ET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инваз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I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хеморагич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грегат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Ag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дхерент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(EAd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к путничког пролива у развијеним земљ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одојчад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е дец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емљама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ут пренос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фекал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-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ктни пу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ца у бол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минирана хр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8B00-C68E-45FA-A1DA-A2C00AD647A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TEC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 специфичне рецептор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ревној слузни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CFA I, II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егз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(e</a:t>
            </a: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нтер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л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ст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Te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молабилни токси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LT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казује сличнос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рмак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имун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а токсино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vibria chole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активира га температура о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60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DCD2-9AC8-43C5-823E-04F05629278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4140360" y="191628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66320" y="764640"/>
            <a:ext cx="754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T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 састоји од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-субјединице</a:t>
            </a:r>
            <a:r>
              <a:rPr b="0" lang="en-U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фичн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ецепторе ентероц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англиози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лаз токсина у ће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</a:rPr>
              <a:t>-субјединица</a:t>
            </a:r>
            <a:r>
              <a:rPr b="0" lang="sr-Latn-CS" sz="2400" spc="-1" strike="noStrike">
                <a:solidFill>
                  <a:srgbClr val="66ccff"/>
                </a:solidFill>
                <a:latin typeface="Calibri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activat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тива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ази у цитоплазму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имулација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денила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кл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ећ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центр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c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злучивање воде и електрол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цревни лумен →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F68-BADD-4C47-AF80-C22F274437A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71280" y="475920"/>
            <a:ext cx="754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абост,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фузан пролив, зелено-жуте боје, мирише на труле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а крви и гно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про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Т-метод културе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-оглед in v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фактора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емаглутин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рологија (реакција аглутин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7ED0-8D09-435D-A6CE-2AD5932F5C6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УСНИ ПРОЛ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30-40% акутних инфективних пролива узроковано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акутни гастроентер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о се излучују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огу се идентификовати путем електронске микроско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није специфична за поједине узроч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219-7E47-4F44-9B79-B1CD858ADA6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Рота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ажнији узрочници тешких инфективних пролива код дец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eoviridae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ЕМ облик точка (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ota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ча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дам група (према протеинској структури); А, Б и Ц-патогене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10 серо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вуда у свету (неразвијене и развијене земљ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 пролива код 35-40% хоспитализован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е оболи 140 милиона деце, умре 1 мили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 обољевају деца од 6 месеци до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5354-1D9C-49CB-81DA-880215C17B7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и број инфекција протиче 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мерени климатски појас-чешће з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 у педијатријским болница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олицом се излучује велика количина вир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Вирус јако отпоран у спољашњој среди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Мала инфективна доза (10 вири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лучивање вируса столицом-непосредно пре појаве првих симптома до 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451E-EFBD-4EFA-A72B-735E3C8454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42560" y="259920"/>
            <a:ext cx="754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епителних ћелија цревних ре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апсорптивне способности з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четкастог покрова-губитак активности хидро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ећана пропустљивост цревног зида за макромолекуле-алергијске реакције на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1-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пролив (водена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хидратација,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компромитовани-пролив дуготрајан и теж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фицит лактазе- може трајати 14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EEC-EA25-41AA-876D-0C99361AF7C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дефицијентне особе-хронич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лектронска микроскопија-карактеристичан изглед то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ролошка детекција А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 (одојчад не прекидају доје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7F54-56C4-483C-AA0B-11E68BA2956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-214200"/>
            <a:ext cx="75438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559A-4FCC-43AE-8954-1A20679DA5A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500040"/>
          <a:ext cx="7543800" cy="593424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актер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n-typhus 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ијарогена </a:t>
                      </a: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herichia coli (EPEC, ETEC, EIEC, EHEC, EAgEC, DA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mpylobacter jejuni/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eromonas hydroph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lesiomonas shigell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ward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alococcus aureus-e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теротоксиг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g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Аден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чно узрокују пролив код мал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око 10% инфективних пролива деце млађе од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начајан број асимптоматских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ком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кт, не храна-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оноштво до 14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лидан постинфекцијски 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79C8-791A-4502-BA07-A84D8EB90D3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ична ротавирусном гастроентеритису-блажа и дуж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3-1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лив ( и до 14 дана): водена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ишена температура, каша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хидратација (не као код ротавир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ултивација вируса (н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78FA-4790-4AD4-9543-FB14CD1845E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лци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фекције присутн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но детињ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главном асимптомат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је-вртићи, старачки домови,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зависно од годишњег д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ала дец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благи гастроентеритис, фебрилност, респ. Симптоми (ређ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Одрасл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онзумација шкољки или пијење контаминиране воде-грчеви, повраћање, воденаст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8DD7-E414-4415-A90E-F012DD6344B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Норвалк и њему сични 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арија деца,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ло контагиозан вирус, инфективна доза&lt;100 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ује проксимални део танког црева, скраћује рес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апсорпција лактозе и м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EA12-857F-4A22-8688-BDAC9298926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1-2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чеви, воденасте столице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ишена температура, мијалгије, главобоља (1/2 оболел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80A-CB82-41F9-8620-15B59A5F325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66320" y="1052280"/>
            <a:ext cx="7543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Астр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ла деца и стар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лажи, воденасти проливи (2-3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ести код ХИВ+ и пацијената са трансплантираним орга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-ИЕМ, детекција вирусног Аг, серологија, P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ронавируси, парвовирус, ентеровируси....?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EE80-CFD3-42F6-9BAC-248A76B6F89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УТНИЧК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утни дијареални синдром који се јавља у једне трећине путника током прве недеље путовања или непосредно по повратку к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ји утичу на појав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аросна доб (&lt;30 год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Хипо- или ахлорхид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Ранија појава пролива приликом пут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шћи при путовањима у тропске крајев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9D2-C8BD-419D-AF31-F4A2416B595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токсич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Шигеле, салмонеле, кампилобактер, вибрио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ambli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ntamoeba histolytic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Strongiloides sterc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ryptosporidium, Rotavirusi, Entero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соко ризична подручја (20-50%): Јужна Америка, Африка, Средњи исток, 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средњег ризика (10-20%): јужна Европа, Медите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ниског ризика (&lt;8%): северна Европа, Канада, САД, Аустралија, Нови Зел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C36-69CF-4F54-B0D2-A6186835C0B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нзумирање локалне хране (термички необрађено поврће, месо и морска храна), употреба леда, непастеризованог млека и неољуштеног во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чиње најчешће 2-3 дана по повратку са пут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(2-3 столице/дневно), некада и преко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е су обилне и водене, праћене експлозивним пражњ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тходи краткотрајни бол у трбуху (гр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може и да варира (зависно од узроч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94C5-FDBB-47AF-BC9F-F8E259AE82D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рт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краткотрајна, 1-3 дана-бактрим, ципрофлокса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бегавање сумњиве воде, хране и напит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ре личне хиг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вентивна примена пробиотика, цревних антисептика и других антимикробних 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акцинација (евенту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3802-705C-49F8-B128-943D71F1132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28800" y="142920"/>
          <a:ext cx="7543800" cy="6264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нтеро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-вир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i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en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отоз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yptospori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spora bel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љив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dida s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араз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mblia inestina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chinela spiralis, Аscaris lumbricoides, Strongiloides stercoralis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1FDF-4CF4-4EA6-9A13-F0221050C4B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E64-CFA1-4069-B661-DD90C7D97BA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03400" y="5011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66"/>
                </a:solidFill>
                <a:latin typeface="Tahoma"/>
              </a:rPr>
              <a:t>Диференцијална дијагноза дијареалног синдрома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1720" y="1428840"/>
          <a:ext cx="7931160" cy="4968720"/>
        </p:xfrm>
        <a:graphic>
          <a:graphicData uri="http://schemas.openxmlformats.org/drawingml/2006/table">
            <a:tbl>
              <a:tblPr/>
              <a:tblGrid>
                <a:gridCol w="7931160"/>
              </a:tblGrid>
              <a:tr h="4994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е, вирусне, паразитарне, гљивичне инфекције цревне слуз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Упална жаришта у близини црева (апендицитис, аднекситис, пијелонефрити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Пролив као општи симптом у току генерализованих инфек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Друге болести дигестивних орг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Пролив због хемијског деловања (лаксанси, лекови, отр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. Пролив код општих метаболичких поремећаја (уремија, дијабетес, хипертиреоза, Адисонова болест, пелагра и с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Dr med</cp:lastModifiedBy>
  <dcterms:modified xsi:type="dcterms:W3CDTF">2022-08-30T21:51:41Z</dcterms:modified>
  <cp:revision>469</cp:revision>
  <dc:subject/>
  <dc:title>Slide 1</dc:title>
</cp:coreProperties>
</file>